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A084-47F9-4EDD-866F-CD218729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209-A2F2-44F2-A010-BA6BFF80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B92D-AB2E-46D2-A2F8-33BA9DD3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0B9-668F-4979-8274-CA781E69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AC5-2610-403D-9629-071DF081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C9BD-BA86-4582-8DF7-9E7E1DFE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C282-8517-49FE-BACE-8F6093BC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9C3F-FC16-4EAE-9BD2-37DD662E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FF96-AEBD-472F-A944-A056158E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44F-F7A4-4DFB-A8FD-2FAB82E0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A1B1-A394-4F16-B997-270E397E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AE71-DFE3-48B8-A6A5-AD7A16B6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299B-32F1-4CA5-AC38-1809DEE54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Richard\Desktop\billtslist\BILL.2009081712.coupled.000hr.TMP.5m.png"/>
          <p:cNvPicPr/>
          <p:nvPr/>
        </p:nvPicPr>
        <p:blipFill>
          <a:blip r:embed="rId1"/>
          <a:stretch/>
        </p:blipFill>
        <p:spPr>
          <a:xfrm>
            <a:off x="0" y="0"/>
            <a:ext cx="4572000" cy="343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Richard\Desktop\billtslist\BILL.2009081712.coupled.000hr.TMP.77.5m.pn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3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Richard\Desktop\billtslist\BILL.2009082112.coupled.000hr.TMP.5m.png"/>
          <p:cNvPicPr/>
          <p:nvPr/>
        </p:nvPicPr>
        <p:blipFill>
          <a:blip r:embed="rId3"/>
          <a:stretch/>
        </p:blipFill>
        <p:spPr>
          <a:xfrm>
            <a:off x="0" y="3424320"/>
            <a:ext cx="4572000" cy="3433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4662720" y="3429000"/>
            <a:ext cx="261900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dSST-60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9/00    -0.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9/12    -0.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0/00    -0.3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0/12    -0.7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1/00    -0.5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1/12    -1.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654440" y="6019920"/>
            <a:ext cx="27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ichard M. Yablonsky, URI/G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OML presentation, 9/17/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830240" y="4572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e-storm S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6101640" y="46836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e-storm 77.5-m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2213640" y="389736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nal S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7473240" y="4038480"/>
            <a:ext cx="150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rric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ll (2009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Richard</dc:creator>
  <dc:description/>
  <dc:language>en-US</dc:language>
  <cp:lastModifiedBy>Richard M. Yablonsky</cp:lastModifiedBy>
  <dcterms:modified xsi:type="dcterms:W3CDTF">2009-09-16T23:56:51Z</dcterms:modified>
  <cp:revision>3</cp:revision>
  <dc:subject/>
  <dc:title>Slide 1</dc:title>
</cp:coreProperties>
</file>